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6D7DD-273A-490C-9D25-495ECD354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C862B-5A82-4196-9C2E-EB1D8C036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3A9A5-9CB3-46E1-B807-37217135F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7DE8A-6CD0-4662-A95E-7C1969612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FA6F1-3C55-4F78-BE3E-AA17C5351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31E00-C69F-4881-B0B1-4668BD92A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1ED29-EC8A-41E4-BE0A-10D6DD5B8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D625E-7630-42A6-99F1-384BFD7D5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EE6AD-A5EE-4281-BF46-B5D92FE93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7D8D5-3101-4AF5-8B00-4D848E1C5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005D2-0CB7-4F22-A37C-C2D28096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A8FD2-10FD-4255-A4D5-4D977BD22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3A344-C2A7-4451-ACA4-C85BC2FC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B0430-BAAE-429F-976D-D98FDEAD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F60FC-0867-4E05-BB0D-E64001633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586F9-75C1-4776-8B6B-8CE025F71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40E7A-0857-4E5A-91E0-8E95B4451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DCF88-DA54-41F8-9849-D7CE19368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91CF9-FC41-4698-9C77-64216F58F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1AAE0-CB92-404A-9140-56F3A5AA1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CD4BE-F047-4B55-91FC-B487CA4D0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192EF-585C-493C-B18D-888BE96A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360C2-B042-41A1-8C99-8E54F765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9A393-E9EA-4741-93BE-5C05DC06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8DB4C-33A6-4F1D-8631-26BDB937CF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4AA66-2648-4F44-AAE8-5E1519412B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24080" y="1980720"/>
            <a:ext cx="60199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FIJI: Roadmap for water governance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New Fiji Water Authority created from 1st Jan 2010 - mandated to provide water supplies and sanitation services for Government built sche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National Water Committee - dormant at 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ft water resource policy developed over the past 7-8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tory environment for WAF/all water users to be develo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anitation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 quality standards based on WHO standards has been developed but work required on full implementation (Mo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illage schemes throughout Fiji developed with contributions from - Government. Self maintained/managed. Water quality problems exist as demonstrated by disease outbrea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rom EU TA to develop the draft water resource policy (through SOPA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 TA to scope water sector support from EDF 10th - Final report presen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itutions involv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eral Resource Department (under Min Lands and Minerals (Chairs NW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artment of Water and Sewerage (remaining after creation of WAF) (under Public Works Dep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ds and Water Resources Management under Ministry of Agri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Planning and Finance - now National Planning and Finance are sepa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stry of Health - Central Health Board (public health responsibility with lab facili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artment of Environment - small unit/overlaoded and limited in expert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 Authority of Fi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tled water compan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y Forwar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ivating the National Water Commit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ing the water resource management policy - TA had advised that it should include sanitation. Propose separate policy for san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te dialogue through the NWC on regulatory framework and policy environment for WAF and other water users (including water quality monitorin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sion on establishment Water Resource Management Unit - whe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sub-committee on san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 1st meeting of NW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ft proposal for technical support: 18 months of long-term TA to facilitate strengthening the policy, regulatory and institutional environment + short term intermittent TA (sanitation, water resource issues, water services and regulatory mechanism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 EU, ADB, SOPAC, other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7T19:02:22Z</dcterms:created>
  <dc:creator>nadia.meredith</dc:creator>
  <dc:description/>
  <dc:language>en-US</dc:language>
  <cp:lastModifiedBy>Jenny Roberts</cp:lastModifiedBy>
  <dcterms:modified xsi:type="dcterms:W3CDTF">2010-04-16T00:10:50Z</dcterms:modified>
  <cp:revision>19</cp:revision>
  <dc:subject/>
  <dc:title>First Joint Water Sector Review</dc:title>
</cp:coreProperties>
</file>